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02B5-BE0B-41DA-B522-F0189C5B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7F4AA-FE94-453C-B909-CA39D15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912B-7D64-4377-A243-FC4A6A3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86FE3-16E5-4194-934C-170DFB80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E3C0-9E7D-46F1-9483-C21AAF3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33B14-2E34-43F3-909E-8B2D2DDD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50C16-294D-416F-B404-93E9DC1B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9096-6749-4E1C-8B58-C4ECF185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73F3-A636-4E75-96F3-4075FD31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94A72-4240-49CB-B108-A6C54200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F1BB0-8525-45CA-8241-C5B89262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0A1F9-B1AE-41A9-8894-A08EC43C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65E90-FF07-4888-81E1-EBF6D2DC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B1EB9-DD87-4EB3-929E-2803C1E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BC24-0489-483E-833E-7E30AD4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1C9ED-4B03-4A19-9888-73CC192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69F16-8D3D-498B-965B-4C46B05B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CD9BE-B6BB-48C2-945A-A72FC150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DD30-422B-4CC3-99DF-A115FC86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83B8E-DC44-467F-BDD1-03EA1E51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2F254-8BD0-41D6-A03C-A33144CA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1D53A-0EF7-4787-96C7-52ADCB5F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37AB1-F390-45CF-B560-0B27ECFD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B826F-695D-4D28-B4B6-EB797EB0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BE813-952F-4B08-86CA-C5F13A47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7DFDF-32A9-45DE-B564-A0E8BF65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C0BDF-2A6F-4158-A266-E110F23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6561A-90C7-4717-A96F-E2F2E08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06AAB-1D32-4EE2-AA0F-8FDCC14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2DD2B-808F-4F27-90C1-4313C43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502-DA0E-4B87-A3B2-13A7B042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FE50F-9A83-49DD-91E3-C3E2578D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F6E77-684E-461B-8640-4D2ABE79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5C4F-FA0A-498E-8164-0619290D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11261-55C8-4B98-8DC8-6AEFAED2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33DCA-C1ED-4655-A0E0-242240E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BB3E4-F592-4043-8CE7-B5780279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0CE5-5400-4089-B7F5-2077A00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815CA-AC0F-424F-93EB-633618AF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7E566-8714-4213-A247-16E6C92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7022-5742-45C5-BA8A-FF12FEA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424-E49B-42DA-91DE-7B4E9E54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A3A8-762D-4C51-B1B9-04DCEFA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FEC6A-9B19-4610-A570-05881708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E0BC2-06F2-43C6-ABB7-79976FDC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76920-4C10-4A4F-949F-F2CE74A6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4A38F-BEDC-41F7-9075-70147742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475-3671-4CF7-BDD9-DE1E1E43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4CD-DFAB-41E5-AA67-5391F65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317-4AD2-4B33-B36D-5E4CA36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251-265B-4AAF-966F-461DC94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E0D-F136-45B0-81CE-EECF524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736-8546-460A-B21C-A2ABF08A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000-4B75-4419-8A35-81D7540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6D9-4AE7-4B1E-BBD9-FCD6FAD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4B1-2C47-419B-A9F3-9F1E49D0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5F7-89E9-4EAD-9271-47342AB0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AD68-CF36-4778-AD28-35A02907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C08D-7320-4916-BD16-116D277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B6BC-54A5-4E05-A48E-8241B03C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A9A-BA2B-40CE-8FC1-1898E198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22BD-1624-4E7C-BF26-53D5102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FD17-17D3-4CD8-ADA9-5D51F91D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6180-E749-4165-9572-D3B7658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C5A-125B-4F1C-9D4A-9082BD25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1491-D2E6-4D54-85E7-92DC4F0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0AC-6FAB-4EFC-B201-496E7CD2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691-BBAA-4FF2-906E-8E54E8C2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13F3-8B15-418E-8761-DFDCE246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940C-5041-47A0-9C29-DC214DCD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081F-1112-4808-8026-20C1DBD6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BEFA-76E4-4AE5-A5D6-978A9E1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2FD9-AC51-4D8F-92CD-665C05D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1701-EA2C-4469-9622-8198966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7F41-052A-49DE-AE4F-4FA39AA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F407-9CD7-4A98-9071-044926C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C1D4-7867-4180-A9D1-AD7A84A5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6FE1-D968-42E8-8743-2DFE36F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9891-81FF-468F-B4CF-DC43788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E1B5-E6DE-4981-85CD-3BF4F476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58BF-85E9-46F3-B791-2D9CEFEA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8B8F-2209-4C06-8E9F-F4A4385C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E73A-06D4-41A6-AF2D-1AAFBC1B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031B-BC40-4076-8820-4E93FA5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1064-46CF-40CF-80BE-C29400A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1F34-A150-467A-8664-48C7C0D0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2F76-779D-4121-826F-E6C198F6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EC12-6189-4853-A279-81B3696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4C94-BC94-49A9-A2BC-4862F6BC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31E4-B608-4815-BC99-598B90C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9B2F-DDA9-45DD-8327-F19EC5B4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381F-1A05-42DD-88C7-E3B58C37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C1C6-9804-4F9E-8B37-32F9B929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6206-B255-40E5-B48F-B676D411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B538-C7E1-4B04-AC5B-4023F73F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EF83-C2D2-418E-A458-54810E53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0DE8-D7F2-468D-8DED-006A1C61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FB6D0-1C09-473B-931D-E6A1C67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828B-486A-4C4F-8B28-BB6FD290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EE466-77DB-4463-96EA-A066E7C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74BB-7BD2-4CFA-BFE3-A58777B1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ADF4-5696-4BF0-9A66-58A8463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76AC-3A51-46C2-86E5-7F5B571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C66E-E213-4CE3-9DB6-BF5F0729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8920-E665-4B45-9AA9-6D705B2F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DB7B-61A5-47EF-B770-B9B5124A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60213-DF72-44CE-B202-B842252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244ED-1815-4AD6-9F98-9A48B426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437BA-D69E-46A3-9643-FC360566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84D8-F2D3-430E-B576-9CCC0BF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E7BC6-0F99-46CA-BCF6-0E2F53C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6CA7D-9603-4612-A43D-6E2DFAD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94025-BA8E-4FFF-AE68-EABF8CB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6A76-77C0-4B17-B464-E02D7F8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4A8AF-A57B-43DD-A339-0F31892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8A774-02D3-4D4E-ABCA-A388C8C3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CBF0A-74B3-4ED9-8E24-18575731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99D8E-A0CC-4A7E-AFC3-DB877069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437D1-7345-4D60-B20A-36FC719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7E14-5C49-4C2D-9C3F-C610CC0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15DAB-EF2B-4356-AEE4-26290354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171F-046D-466C-ACC0-73DEEA93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42DC-18A9-4111-82EC-DAF365A3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FA85E-1479-441F-BFD3-D601BA7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73C4-1C58-466C-84EB-7D8063B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DECCD-5D24-4CA8-861A-4BA95DC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E574-687A-4D18-8B28-84D18E53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0E7CB-4EC5-4B1F-8318-0DCC2304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BFC68-9608-4E5B-9762-64719242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49A1C-E360-4995-8FA5-B79F5C42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DEB52-A1F9-46F9-AECD-6CD5E02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E4061-643C-4E11-88B4-04FBB680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616-24D8-4421-BDC4-5DF2589DD2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1FD-BFD7-4EB9-BCB6-054E89EDC9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D09-DC37-4EB4-B117-1C91E6071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5" name="Text Box 46"/>
          <p:cNvSpPr/>
          <p:nvPr/>
        </p:nvSpPr>
        <p:spPr>
          <a:xfrm>
            <a:off x="6805440" y="189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  <a:ea typeface="楷体_GB2312"/>
              </a:rPr>
              <a:t>电路分析与应用精品课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179280" y="623736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楷体_GB2312"/>
              </a:rPr>
              <a:t>重庆电子工程职业学院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E29-1A5D-47A6-8905-8E2DE83EF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97A3-06E6-4E0C-B3C0-0FB5B6219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93E-54F9-4E7A-A776-2F2A42A28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F86E-BC82-4132-9B53-839F1D904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C4E6-DDE8-46AC-84DE-269B6CAFE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76BE-26B3-4D05-9450-F460475B8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B397-47E4-495E-B0FA-BBDD4DE12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334-C46D-46E5-B7FC-9C71C51D2C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92360" y="4079880"/>
            <a:ext cx="4186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电子信息系    陈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Picture 4" descr="chenwei"/>
          <p:cNvPicPr/>
          <p:nvPr/>
        </p:nvPicPr>
        <p:blipFill>
          <a:blip r:embed="rId1"/>
          <a:stretch/>
        </p:blipFill>
        <p:spPr>
          <a:xfrm>
            <a:off x="6300720" y="2997360"/>
            <a:ext cx="20541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电路等效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如果两个电路的端口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完全相同，则称两个电路等效。对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电路，当两个电路等效时，则有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2700360" y="2205000"/>
                <a:ext cx="345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41" name="Picture 7" descr="图2_2"/>
          <p:cNvPicPr/>
          <p:nvPr/>
        </p:nvPicPr>
        <p:blipFill>
          <a:blip r:embed="rId2"/>
          <a:stretch/>
        </p:blipFill>
        <p:spPr>
          <a:xfrm>
            <a:off x="1332000" y="3068640"/>
            <a:ext cx="6267240" cy="2324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611280" y="5516640"/>
            <a:ext cx="8137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称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串联的等效电阻。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与图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电路互为等效电路，等效电路之间的相互替代称为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阻的串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4" name="Picture 6" descr="C2_1"/>
          <p:cNvPicPr/>
          <p:nvPr/>
        </p:nvPicPr>
        <p:blipFill>
          <a:blip r:embed="rId1"/>
          <a:stretch/>
        </p:blipFill>
        <p:spPr>
          <a:xfrm>
            <a:off x="1042920" y="1144440"/>
            <a:ext cx="7415280" cy="51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例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6" name="Picture 4" descr="C2_2"/>
          <p:cNvPicPr/>
          <p:nvPr/>
        </p:nvPicPr>
        <p:blipFill>
          <a:blip r:embed="rId1"/>
          <a:stretch/>
        </p:blipFill>
        <p:spPr>
          <a:xfrm>
            <a:off x="1187280" y="1500120"/>
            <a:ext cx="6840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2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并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实中的各种电器设备大都是以并联方式连接到电源线上的。为了分析方便，可将各种电器设备简化为并联的负载电阻，以便对电路特性进行分析测算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若电路中有两个或两个以上的电阻，其首、尾两端分别连接于两个节点，在两个节点之间加上电压后，则每个电阻两端的电压都相同，此种连接方式称为电阻的并联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92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三个电阻的并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0" name="Picture 4" descr="图2_4"/>
          <p:cNvPicPr/>
          <p:nvPr/>
        </p:nvPicPr>
        <p:blipFill>
          <a:blip r:embed="rId1"/>
          <a:stretch/>
        </p:blipFill>
        <p:spPr>
          <a:xfrm>
            <a:off x="1332000" y="1500120"/>
            <a:ext cx="6419880" cy="1986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C2_3"/>
          <p:cNvPicPr/>
          <p:nvPr/>
        </p:nvPicPr>
        <p:blipFill>
          <a:blip r:embed="rId2"/>
          <a:stretch/>
        </p:blipFill>
        <p:spPr>
          <a:xfrm>
            <a:off x="2340000" y="3573360"/>
            <a:ext cx="4762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个电导并联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3" name="Picture 4" descr="C2_4"/>
          <p:cNvPicPr/>
          <p:nvPr/>
        </p:nvPicPr>
        <p:blipFill>
          <a:blip r:embed="rId1"/>
          <a:stretch/>
        </p:blipFill>
        <p:spPr>
          <a:xfrm>
            <a:off x="1042920" y="136368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7456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99"/>
                </a:solidFill>
                <a:latin typeface="Arial"/>
              </a:rPr>
              <a:t>两个电阻的并联</a:t>
            </a: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55" name="Picture 4" descr="C2_5"/>
          <p:cNvPicPr/>
          <p:nvPr/>
        </p:nvPicPr>
        <p:blipFill>
          <a:blip r:embed="rId1"/>
          <a:stretch/>
        </p:blipFill>
        <p:spPr>
          <a:xfrm>
            <a:off x="1619280" y="1900080"/>
            <a:ext cx="60976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并联电路的应用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汽车照明电路中，采用了并联电路控制方式（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所示），其优点是各个支路控制独立，不会产生相互影响。当刹车灯亮时，不会影响照明灯；当关闭远光灯时，不会影响近光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8" name="Picture 4" descr="图2_5"/>
          <p:cNvPicPr/>
          <p:nvPr/>
        </p:nvPicPr>
        <p:blipFill>
          <a:blip r:embed="rId2"/>
          <a:stretch/>
        </p:blipFill>
        <p:spPr>
          <a:xfrm>
            <a:off x="826920" y="2781360"/>
            <a:ext cx="7560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现有一个满刻度偏转电流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 μ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内阻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kΩ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表头，需制成量程为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m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直流电流表，请问应如何连接电路并正确及参数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1" name="Picture 4" descr="图2_6"/>
          <p:cNvPicPr/>
          <p:nvPr/>
        </p:nvPicPr>
        <p:blipFill>
          <a:blip r:embed="rId2"/>
          <a:stretch/>
        </p:blipFill>
        <p:spPr>
          <a:xfrm>
            <a:off x="468360" y="3284640"/>
            <a:ext cx="8388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3" name="Picture 4" descr="C2_6"/>
          <p:cNvPicPr/>
          <p:nvPr/>
        </p:nvPicPr>
        <p:blipFill>
          <a:blip r:embed="rId1"/>
          <a:stretch/>
        </p:blipFill>
        <p:spPr>
          <a:xfrm>
            <a:off x="539640" y="1268280"/>
            <a:ext cx="817272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单元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 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测量分析等效变换电阻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000" y="1612800"/>
            <a:ext cx="7786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基本要求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建立电路等效变换的概念，掌握多种等效变换方法和电路模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的串联和并联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形电路与△形电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源模型的等效变换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受控源模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实验电路连接的方法，实现电路图与实物连接的相互转换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熟练掌握使用电源和数字万用表测量电路各种状态参数的技能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3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混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果电阻电路中，既有电阻串联又有电阻并联，称此为电阻混联电路。对于电阻混联电路在实际工作中应用很广、形式多样，在分析简化时可应用等效的概念，逐次求出各串、并联部分的等效电路，最终将其简化成一个无分支的等效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在电阻串并混联电路中，对于给定的端口，如果已知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，需要分析计算各个支路电流和电压，通常求解步骤是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求出串并联混联电路对于给定端口的等效电阻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（或等效电导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欧姆定律求端口的电压（或电流）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应用电流和电压分配公式分别求出各电阻的电流和电压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7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电路中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已知：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1=1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2= R4=2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3= R5=40Ω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=12V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求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b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端口的等效电阻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端口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支路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电压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ac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图2_7"/>
          <p:cNvPicPr/>
          <p:nvPr/>
        </p:nvPicPr>
        <p:blipFill>
          <a:blip r:embed="rId1"/>
          <a:stretch/>
        </p:blipFill>
        <p:spPr>
          <a:xfrm>
            <a:off x="4067280" y="1916280"/>
            <a:ext cx="4752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7932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3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0" name="Picture 5" descr="C2_7"/>
          <p:cNvPicPr/>
          <p:nvPr/>
        </p:nvPicPr>
        <p:blipFill>
          <a:blip r:embed="rId1"/>
          <a:stretch/>
        </p:blipFill>
        <p:spPr>
          <a:xfrm>
            <a:off x="1255680" y="1428840"/>
            <a:ext cx="6816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408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4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3970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中，要求负载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.015A≤IL≤0.020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试求滑线变阻器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P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调节范围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Picture 4" descr="图2_1"/>
          <p:cNvPicPr/>
          <p:nvPr/>
        </p:nvPicPr>
        <p:blipFill>
          <a:blip r:embed="rId1"/>
          <a:stretch/>
        </p:blipFill>
        <p:spPr>
          <a:xfrm>
            <a:off x="4932360" y="1628640"/>
            <a:ext cx="361944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例题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2.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5" name="Picture 4" descr="C2_8"/>
          <p:cNvPicPr/>
          <p:nvPr/>
        </p:nvPicPr>
        <p:blipFill>
          <a:blip r:embed="rId1"/>
          <a:stretch/>
        </p:blipFill>
        <p:spPr>
          <a:xfrm>
            <a:off x="1547640" y="1193760"/>
            <a:ext cx="54864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812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实训题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现有一磁电式微安表表头，内阻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.5 kΩ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μ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，现欲改装成量程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0V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的电压表，请完成相关电路设计和元器件的选择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引   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的等效变换方法在电子产品设计、调试优化和分析计算过程中具有重要作用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电路等效方法，可以把多个元件组成的电路简化成一个或几个元件组成的电路，从而降低产品成本，提高可靠性，简化电路分析和故障检测维修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运用等效变换分析电路，是电路分析中经常使用的方法，在电路理论中有着重要的地位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主要方法有：电阻电路的等效变换、有源电路的等效变换、受控源的等效变换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任务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2.1  </a:t>
            </a: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测量分析电阻的串、并、混联电路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任务目标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电阻串、并、混联电路连接的方法，熟练使用数字万用表测量分析相关参数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掌握应用欧姆定律和基尔霍夫定律分析电阻的串、并、混联电路参数的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建立等效电路的概念，掌握简化、优化电阻电路的等效变换方法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）在满足功能要求的条件下，能选择标称电阻代替串、并、混联电路中的等效电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509400"/>
            <a:ext cx="822960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任务安排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52560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任务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-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现有某电子产品的局部电路如图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所示，要求负载电流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5A≤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≤0.020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选择元器件连接电路，测量分析电位器应调节的阻值范围，并测量分析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分别为表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中的工作电流时的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调节阻值，画出测量电路图，提出实验步骤。如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正常工作电流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.018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请问能否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合并用一个电阻代替，并为合并电阻选择合适的标称电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Picture 4" descr="图2_1"/>
          <p:cNvPicPr/>
          <p:nvPr/>
        </p:nvPicPr>
        <p:blipFill>
          <a:blip r:embed="rId2"/>
          <a:stretch/>
        </p:blipFill>
        <p:spPr>
          <a:xfrm>
            <a:off x="5651640" y="1341360"/>
            <a:ext cx="3138480" cy="331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表2_1"/>
          <p:cNvPicPr/>
          <p:nvPr/>
        </p:nvPicPr>
        <p:blipFill>
          <a:blip r:embed="rId3"/>
          <a:stretch/>
        </p:blipFill>
        <p:spPr>
          <a:xfrm>
            <a:off x="755640" y="4941720"/>
            <a:ext cx="7993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等效电路应用与等效条件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在实际应用中，经常使用限流电阻、可调电阻对输出的电流、电压进行调节，以满足负载的要求；在不同工作状态的测量分析、优化定型时，通常会对多个电阻进行合并，用一个等效电阻来替换，以减少电路元件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路等效的条件是相互等效的两个电路具有相同的电压、电流关系，是用简单电路替换复杂电路后外电路中的电压、电流及功率完全相同，其目的是简化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阻电路有两种基本形式：串联电路和并联电路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1.1  </a:t>
            </a:r>
            <a:r>
              <a:rPr b="1" lang="zh-CN" sz="4400" spc="-1" strike="noStrike">
                <a:solidFill>
                  <a:srgbClr val="ffff99"/>
                </a:solidFill>
                <a:latin typeface="Arial"/>
              </a:rPr>
              <a:t>电阻的串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在现代数字集成电路电子产品中，大量采用串联电阻来得到不同的分压电压；在测量仪器仪表中，大量采用串联不同阻值的电阻来得到不同的测量量程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若电路中有两个或两个以上的电阻首尾相接、中间没有分支，在电源的作用下，通过各电阻的电流都相同，则称这种连接方式为电阻的串联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6314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三个电阻串联的电路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设电流、电压参考方向如图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）所示，根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V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欧姆定律，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4"/>
              <p:cNvSpPr txBox="1"/>
              <p:nvPr/>
            </p:nvSpPr>
            <p:spPr>
              <a:xfrm>
                <a:off x="1547640" y="2349360"/>
                <a:ext cx="6048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6"/>
          <p:cNvSpPr/>
          <p:nvPr/>
        </p:nvSpPr>
        <p:spPr>
          <a:xfrm>
            <a:off x="684360" y="3068640"/>
            <a:ext cx="80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即：串联电阻电路中总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等于每个电阻上的电压之和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1" name="Picture 8" descr="图2_2a"/>
          <p:cNvPicPr/>
          <p:nvPr/>
        </p:nvPicPr>
        <p:blipFill>
          <a:blip r:embed="rId2"/>
          <a:stretch/>
        </p:blipFill>
        <p:spPr>
          <a:xfrm>
            <a:off x="3132000" y="3645000"/>
            <a:ext cx="3019680" cy="21412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485640" y="591984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电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电压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与电流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关系为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3059280" y="2060640"/>
                <a:ext cx="2124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6" name="Picture 6" descr="图2_2b"/>
          <p:cNvPicPr/>
          <p:nvPr/>
        </p:nvPicPr>
        <p:blipFill>
          <a:blip r:embed="rId2"/>
          <a:stretch/>
        </p:blipFill>
        <p:spPr>
          <a:xfrm>
            <a:off x="2340000" y="3068640"/>
            <a:ext cx="374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56:50Z</dcterms:created>
  <dc:creator>chenchen</dc:creator>
  <dc:description/>
  <dc:language>en-US</dc:language>
  <cp:lastModifiedBy>GP</cp:lastModifiedBy>
  <dcterms:modified xsi:type="dcterms:W3CDTF">2010-08-22T01:45:09Z</dcterms:modified>
  <cp:revision>11</cp:revision>
  <dc:subject/>
  <dc:title>单元1  测量分析电阻电路</dc:title>
</cp:coreProperties>
</file>